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D57-0F48-4400-93C0-6183F2ED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2A7-C3E3-46B8-8DB5-5121DBC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082-008A-4AB4-8204-291AF4B5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048-E3C1-4AD9-9230-08A52D4F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5450-3F6E-4ED3-95D4-EC7EA6D3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0B54-4298-4689-AB7F-19D82BF5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D4F0-AD22-4CD6-B799-0EE7A944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1F21-4E83-4FFA-B412-56BC03E1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2262-A06B-40A0-8011-1F1C5ED4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DC37-60B1-469D-9EB1-9D77D53E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2D55-71B1-4AB7-97D6-DAE943C4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D21-C23E-4F06-BEFD-FBA147B0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68E6-6972-4F26-A5A6-17B5DDA7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8BEA-5461-4C82-BCB1-2C026FBD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DC06-DBD9-4928-8F34-E10D6183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11F3-A07C-47B5-93F2-F0A47245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2BF8-0AAF-4302-A487-E1CEAAE8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8F71-246A-42A3-91BA-6C88721F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DB78-F7E8-41AE-BC82-0C7D500F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2602-AF98-4BBE-A4D8-ADAB57A3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3187-F567-4D02-93FE-22529A0B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BAD3-A7E9-4BA1-8EDA-9FF760F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9A7-700B-4759-89F6-FF7DBDD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7D4F-8F62-4B17-A022-021A90DF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768A-F8A9-4642-9E90-7E834D2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CD88-13EB-4F6B-B411-79C4BCB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0180-B687-43A2-B38B-641B5F0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5567-E710-4A7B-88B6-17495D1C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3D1E-B741-4CB5-9F17-FFB8CA6C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4BBF-2F39-4FD9-AB72-297693B2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9F8B2-77AE-456B-A6D2-B15654C4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F3C19-AA2F-4D61-A2F3-278F8F28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EBA91-A042-4393-ADBD-84BBF6CD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920-B5EC-4860-9EA9-1760EF34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2F329-26C3-48EF-8D50-70EDF9B6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19300-C0F8-4917-A393-889F575C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F82FD-2F5F-4326-85AA-FD80A30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73D2F-EB54-43A0-A0CD-94568CF0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EE5D7-D8D1-4E87-A03F-73F829B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9C53E-3CB1-43A9-96FC-0861616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05C62-F431-4054-B2B7-4CF84570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380EE-F3E7-4AF6-B578-2535B1C6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2375F-71EB-4D65-BA2E-06603CCB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56FFE-EC16-43BA-9F3F-FC51DA73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896-52DD-475E-A8ED-7A926D9F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4303A-D7A0-4D44-A452-C242F085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6150-A90E-42FC-A9F1-1BEC12AF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5F437-FD4C-4DEE-9385-2DA3E49A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E728-723B-468D-BD85-014A1F8E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7070B-0CC6-43E2-8B24-7DBD82A7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00FA5-7593-4E5B-9360-86CDE234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D128E-E63F-4CAD-9CF5-BC95494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FB79A-7C33-4995-B785-A9EE724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772B1-4A7F-4FC8-87C7-8E06247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076A-E25B-4D3E-8B26-874C4EDD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E38-8475-4A47-A354-94C31F7E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A11F1-3746-4319-940F-52D65A47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2B231-A6D7-4F6E-B18B-1DBC664F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9C989-A12D-48C9-B69B-D59788F1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624C-094C-40AF-BA15-D7B10550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90181-D992-4DB7-A590-AB8BFA96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D3C67-8E1D-4BE8-9DB0-446CEDB0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0C264-1B6E-4A99-BD92-BEC32E4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DE244-69B9-4590-93B4-452DC1F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E0B22-2AC5-41C0-9A09-50F845ED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35945-C32E-4EF9-A489-63117791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88E-ED05-406B-88E5-A53C8315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6AEC4-5945-4561-B07F-EBC6B3D8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3FD98-1408-4CF1-BCF7-91DC0914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A8A98-7865-41C0-8EAE-719E388C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C2C-CB9A-43AD-AEE0-815CF4A0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F7E-B646-4D67-BEB8-8FB48247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E425-77C1-42B9-AEBA-A63E30C3348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5419-D015-496A-9009-5989F4382B8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6DD5-D90B-420E-8DFC-26511B791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BE47-1FF8-459E-91E6-CDD1285D8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3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3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5D73-22FE-4869-974C-76AF2A6707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8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8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9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2DC8-FF9A-446D-B2F9-40F3FBE8E9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talacja gazow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 samochodz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Budowa i zasada dział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5867280" y="6093000"/>
            <a:ext cx="2762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rzysztof MALIK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Układ zasilania IV generacj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587920" cy="46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ozmieszczenie elementów instalacji gazowej I generacji w samochodzi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372360" y="2133720"/>
            <a:ext cx="244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Arial Black"/>
              </a:rPr>
              <a:t>1 – Wlew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Arial Black"/>
              </a:rPr>
              <a:t>2 – Wielozawór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Arial Black"/>
              </a:rPr>
              <a:t>3 – Elektrozawór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Arial Black"/>
              </a:rPr>
              <a:t>4 – Reduktor – parownik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Arial Black"/>
              </a:rPr>
              <a:t>5 – Attuator – silnik krokowy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Arial Black"/>
              </a:rPr>
              <a:t>6 – Regulator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Arial Black"/>
              </a:rPr>
              <a:t>7 – Przełącznik automatyczny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Arial Black"/>
              </a:rPr>
              <a:t>8 – Układ sterujący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5689800" cy="413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"/>
          <p:cNvGraphicFramePr/>
          <p:nvPr/>
        </p:nvGraphicFramePr>
        <p:xfrm>
          <a:off x="1647720" y="2165400"/>
          <a:ext cx="61167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2165400"/>
                    <a:ext cx="61167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 txBox="1"/>
          <p:nvPr/>
        </p:nvSpPr>
        <p:spPr>
          <a:xfrm>
            <a:off x="3419640" y="1341360"/>
            <a:ext cx="2238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biornik gaz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600200" y="2362320"/>
          <a:ext cx="617076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617076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 txBox="1"/>
          <p:nvPr/>
        </p:nvSpPr>
        <p:spPr>
          <a:xfrm>
            <a:off x="3635280" y="1557360"/>
            <a:ext cx="17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lew gaz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676520" y="2071800"/>
          <a:ext cx="6325920" cy="40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71800"/>
                    <a:ext cx="632592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 txBox="1"/>
          <p:nvPr/>
        </p:nvSpPr>
        <p:spPr>
          <a:xfrm>
            <a:off x="3780000" y="1268280"/>
            <a:ext cx="1904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ielozawó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00200" y="2151000"/>
          <a:ext cx="632448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51000"/>
                    <a:ext cx="632448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 txBox="1"/>
          <p:nvPr/>
        </p:nvSpPr>
        <p:spPr>
          <a:xfrm>
            <a:off x="3924360" y="1341360"/>
            <a:ext cx="1914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awór gaz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769080" cy="38545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3924360" y="1413000"/>
            <a:ext cx="1504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dukt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689440" cy="3375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4140360" y="1628640"/>
            <a:ext cx="11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ks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5761080" cy="32209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3635280" y="1844640"/>
            <a:ext cx="1905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zełączni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9:00:53Z</dcterms:created>
  <dc:creator>Administrator</dc:creator>
  <dc:description/>
  <dc:language>en-US</dc:language>
  <cp:lastModifiedBy>Administrator</cp:lastModifiedBy>
  <dcterms:modified xsi:type="dcterms:W3CDTF">2002-11-22T11:06:55Z</dcterms:modified>
  <cp:revision>7</cp:revision>
  <dc:subject/>
  <dc:title>MALINA</dc:title>
</cp:coreProperties>
</file>